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8CB-4B38-4682-A78F-46B066DA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493-E2CF-429C-B507-E2E2BE21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9E9-42CF-40B4-8962-7D34C307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837-C31A-4B1A-A0D4-D833B41B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E4F-66A9-4A78-8AE0-C12F54A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D76-EB31-4B07-8894-4C9EF13C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06B-D565-48F5-8A7F-E9E01696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D50-5AC2-4840-B358-CBCE32E3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925-3189-4BCC-835C-7AC0C334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57F-CA4D-492D-81FB-CD5F80B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441-99AB-401B-9869-70C0DEA6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1F9-B4FC-4AD6-B385-49165F7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A737-CACC-4E75-BF6F-3A802D0311F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AD7F-E683-4071-8AFF-FA43493672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CF4E-4D9B-4300-8FE7-14D48EC8E4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075440" y="0"/>
            <a:ext cx="206856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"/>
          <p:cNvPicPr/>
          <p:nvPr/>
        </p:nvPicPr>
        <p:blipFill>
          <a:blip r:embed="rId2"/>
          <a:stretch/>
        </p:blipFill>
        <p:spPr>
          <a:xfrm>
            <a:off x="669960" y="237960"/>
            <a:ext cx="2689200" cy="20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8" descr="C:\Users\Лилия Фаргатовна\Desktop\IMG-20210217-WA0036.jpg"/>
          <p:cNvPicPr/>
          <p:nvPr/>
        </p:nvPicPr>
        <p:blipFill>
          <a:blip r:embed="rId3"/>
          <a:stretch/>
        </p:blipFill>
        <p:spPr>
          <a:xfrm>
            <a:off x="2962440" y="450720"/>
            <a:ext cx="2792160" cy="195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8" descr=""/>
          <p:cNvPicPr/>
          <p:nvPr/>
        </p:nvPicPr>
        <p:blipFill>
          <a:blip r:embed="rId4"/>
          <a:stretch/>
        </p:blipFill>
        <p:spPr>
          <a:xfrm>
            <a:off x="5321160" y="590400"/>
            <a:ext cx="2932200" cy="19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8" descr=""/>
          <p:cNvPicPr/>
          <p:nvPr/>
        </p:nvPicPr>
        <p:blipFill>
          <a:blip r:embed="rId5"/>
          <a:stretch/>
        </p:blipFill>
        <p:spPr>
          <a:xfrm>
            <a:off x="669960" y="1809720"/>
            <a:ext cx="2658960" cy="19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C:\Users\Лилия Фаргатовна\Desktop\IMG-20210211-WA0067.jpg"/>
          <p:cNvPicPr/>
          <p:nvPr/>
        </p:nvPicPr>
        <p:blipFill>
          <a:blip r:embed="rId6"/>
          <a:stretch/>
        </p:blipFill>
        <p:spPr>
          <a:xfrm>
            <a:off x="2889360" y="1951200"/>
            <a:ext cx="2865240" cy="19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C:\Users\Лилия Фаргатовна\Desktop\IMG-20210205-WA0028.jpg"/>
          <p:cNvPicPr/>
          <p:nvPr/>
        </p:nvPicPr>
        <p:blipFill>
          <a:blip r:embed="rId7"/>
          <a:stretch/>
        </p:blipFill>
        <p:spPr>
          <a:xfrm>
            <a:off x="5535720" y="2023920"/>
            <a:ext cx="2931840" cy="19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C:\Users\Лилия Фаргатовна\Desktop\IMG_20210219_093531.jpg"/>
          <p:cNvPicPr/>
          <p:nvPr/>
        </p:nvPicPr>
        <p:blipFill>
          <a:blip r:embed="rId8"/>
          <a:stretch/>
        </p:blipFill>
        <p:spPr>
          <a:xfrm>
            <a:off x="669960" y="3371760"/>
            <a:ext cx="2732040" cy="190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C:\Users\Лилия Фаргатовна\Desktop\IMG_20210219_094627.jpg"/>
          <p:cNvPicPr/>
          <p:nvPr/>
        </p:nvPicPr>
        <p:blipFill>
          <a:blip r:embed="rId9"/>
          <a:stretch/>
        </p:blipFill>
        <p:spPr>
          <a:xfrm>
            <a:off x="3176640" y="3517920"/>
            <a:ext cx="2863800" cy="182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C:\Users\Лилия Фаргатовна\Desktop\IMG-20210219-WA0095.jpg"/>
          <p:cNvPicPr/>
          <p:nvPr/>
        </p:nvPicPr>
        <p:blipFill>
          <a:blip r:embed="rId10"/>
          <a:stretch/>
        </p:blipFill>
        <p:spPr>
          <a:xfrm>
            <a:off x="5821200" y="3517920"/>
            <a:ext cx="28591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6360" y="285480"/>
            <a:ext cx="6993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ТВА ХОРОВ «ПОЮ МОЕ ОТЕЧЕСТВО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4AE-1FEB-495A-ACF5-84DE1CC107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42960" y="0"/>
            <a:ext cx="807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БОУ «Лицей 159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000240" y="1143000"/>
            <a:ext cx="350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цее прошла  битва хоров патриотической песни «Пою моё Отечество».  Именно такие конкурсы  воспитывают  чувства патриотизма и любви к своему Отечеству на примере песен о Родине, формируют  у воспитанников осознанное отношение к своей Родине, чувство национального самосознания и гордости за свою Род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935760" y="1351080"/>
            <a:ext cx="13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"/>
          <p:cNvPicPr/>
          <p:nvPr/>
        </p:nvPicPr>
        <p:blipFill>
          <a:blip r:embed="rId1"/>
          <a:stretch/>
        </p:blipFill>
        <p:spPr>
          <a:xfrm>
            <a:off x="7075440" y="0"/>
            <a:ext cx="206856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1832040" cy="137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3"/>
          <a:stretch/>
        </p:blipFill>
        <p:spPr>
          <a:xfrm>
            <a:off x="6858000" y="1143000"/>
            <a:ext cx="2000160" cy="15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"/>
          <p:cNvPicPr/>
          <p:nvPr/>
        </p:nvPicPr>
        <p:blipFill>
          <a:blip r:embed="rId4"/>
          <a:stretch/>
        </p:blipFill>
        <p:spPr>
          <a:xfrm>
            <a:off x="785880" y="2928960"/>
            <a:ext cx="192096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"/>
          <p:cNvPicPr/>
          <p:nvPr/>
        </p:nvPicPr>
        <p:blipFill>
          <a:blip r:embed="rId5"/>
          <a:stretch/>
        </p:blipFill>
        <p:spPr>
          <a:xfrm>
            <a:off x="6858000" y="3071880"/>
            <a:ext cx="201780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"/>
          <p:cNvPicPr/>
          <p:nvPr/>
        </p:nvPicPr>
        <p:blipFill>
          <a:blip r:embed="rId6"/>
          <a:stretch/>
        </p:blipFill>
        <p:spPr>
          <a:xfrm>
            <a:off x="3429000" y="3286080"/>
            <a:ext cx="2878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RH</cp:lastModifiedBy>
  <cp:lastPrinted>2021-02-04T07:26:50Z</cp:lastPrinted>
  <dcterms:modified xsi:type="dcterms:W3CDTF">2021-02-25T14:15:40Z</dcterms:modified>
  <cp:revision>425</cp:revision>
  <dc:subject/>
  <dc:title>Презентация PowerPoint</dc:title>
</cp:coreProperties>
</file>